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7CD-A137-4304-B950-433B65A6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DA7-89B9-4055-97AC-E4D1A719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99FB0-EFFE-4F55-909C-8CAE9512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D511B-386B-4508-A918-CA54F8BC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04EBF-CD9B-423F-80FA-A89A09D6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DB601-068B-4E1E-BCF2-ED5F180A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C2829-2A3C-4293-9412-44ECC380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E93A3-A66C-4AC6-8C95-01700DB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79640-3ADB-4BD0-80C5-DE9B2363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E4731-5A51-4FD3-A248-453CE99D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16C31-8C77-4954-ABFD-A22A53E2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7B982-4FA2-4321-A9AE-D473A8ED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FA2-20F2-43DC-B518-3D6F897A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25DC3-EB69-4BB6-A044-0A554E3E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958EB-B78F-4C2A-994D-4FA9CA05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EFAD4-DF14-4F82-A792-FD47876E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8D501-DF11-4B07-BD41-8B977864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653CA-6023-4CAC-8D7E-9C56450B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62244-02DE-4635-92E0-4FBB9A2B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EB52C-9D60-4ACB-8246-36E6007D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9E018-D032-4EB6-AC67-CA21D502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56C68-643C-47BF-877B-CCBC8869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7789F-2E71-447A-9FEF-49F6C982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5B6-E61C-4BAC-B38D-BFCBC633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597C0-C058-47B1-9CD4-61551EDC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B9243-AFE1-44A0-9884-F9E5517B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DF718-C81C-472C-9136-726B2A16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837A0-0F77-4DCD-9364-F11126CD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2EF75-D87D-4808-8B03-5A4C3DD4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840EE-3D03-4445-9F22-87FC5429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2417A-7491-44DF-8D22-4BA4C794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068F2-A9BB-4BB5-9ECC-4A09C728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90226-B393-4A87-A7D9-1B380ECF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410F6-8C1D-4F93-8B8A-B3619AD7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8E61-03EC-45AC-A7F8-95F838DD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F8012-797B-47DB-8A83-1B0C8D67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C2831-C2B7-431A-83BB-AA8A96F4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DE183-D634-4F04-A495-7EDBDDB1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A9496-4EC8-4B8D-AFC5-8BD9D5DF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8DCAE-E508-4389-B7E1-659DDA29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BD004-C0D9-4659-94F9-7DB71B62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2CDAB-D5DF-47D8-B93C-B59FE15C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EA2CE-8CD5-484B-A97E-92D28EBD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0160C-B202-46E7-9348-6AE75F0C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DDA7C-1C49-411E-B17D-57357501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99B4-7185-4FA5-96C8-E09C0B50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00262-F253-407A-A89A-55BBC81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F9D95-06FE-416F-8580-489C1C8B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9E694-E6EC-4E0E-93C8-0EB2EABF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EF5B6-35DA-4BC7-AC1B-FB6F5EEE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8F456-D40E-4BB4-8B2C-221D2051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83F36-41A8-4BBA-90E9-7C6465C8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0DF60-668A-45BA-AA98-E4D3D4B6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3F598-22C2-4E22-9F54-4DA8C6BC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9CCDA-1469-43C0-8C0F-5F2AF16B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1225B-73A7-44DF-92C8-9D35AD8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F6A1-5623-40AF-B51A-56606F96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3F14F-4CF8-4F01-92C0-9B7011D6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A7B3C-F510-4D37-911A-07428A1A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974DF-689B-46D4-98D5-B4D49421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28D3A-161D-4637-8B2A-3E29B331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AAB47-48B5-405F-AC2C-60FF894D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D0254-0A65-4A58-B695-702B6388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91BB6-9461-480E-92E4-8A89E273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70029-D02D-4C06-B29C-D1211CFB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AEB0F-038B-4CE2-8032-B583F31E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D27CD-A5EC-4027-8900-51F8A83F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65EB-0F71-42B5-A63F-72D6F5D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041AE-4B2E-49F9-9859-CB74F155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05983-A3C3-4C86-AB53-820AFCE9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09683-50FD-461C-A81D-1CE93B84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F8E40-615F-47D9-88C8-9F0F6C2D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1BE43-0505-4696-95C8-49E757BC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E6923-33A3-481E-B131-9BEEDC45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3F580-985B-421E-AE06-E38B2790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19297-8316-4A26-A17B-94835ADF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56EBA-2AE6-4433-AA91-CA7D1B2C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CFCFC-9C2B-4A7A-9EDA-C2B2B3AC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F793-482B-4E51-8595-F2ADA879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AC98D-FCAE-4632-819F-DA50CB3A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426AD-19F2-476C-AD85-A273862D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7F092-1294-4729-AF9C-4144E8C7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3CA6A-0FEE-49A6-8195-73848E9A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3827F-CDF0-4D99-8C95-2095F3FB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04A95-3276-42E7-B2B4-32C2E4A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69702-505C-40F9-A89F-0ED16FC2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4C3C6-73F0-4D8E-AE44-21C26709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DFAAF-FAA8-41E5-A973-01991BBA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436A4-4711-47C1-A98F-E4097E5D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0105-2E1C-48B5-A334-5093BA6F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BFDA2-D817-44D7-9420-E1D01E44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55CBB-BC89-4458-AA17-31C74395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8BA2DD-CF7B-4416-A32E-BAA01E85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DA0E5-2864-4073-B031-3DA5127C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1A63E-8FB1-43FA-8976-E74EFEF6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B0B55-9396-46C1-A02D-66F1B3CE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F2CAD-44D0-460E-9743-B0FF3658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D0837-EBA6-4F48-BA9A-3C9EB5C0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E740D-C8C9-4491-B8D7-30CF879C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00B3E-B811-49A1-B266-BB459F2D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CFCA-B74E-4576-A794-C9879A5D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37DC8-19E8-4AA5-B470-CBB3F1FA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72AAC-394A-42DE-A35D-415D3985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A55A0-59FA-4C90-BC58-47AB6B18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FAC80-5ADF-4C7D-9B5A-28784552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3F19C-03FF-4693-8E43-C714CE18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AF091-2763-4B8F-8214-99E95295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B79B0-5485-4A33-AF33-58FC6D00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BACEA-4850-4F14-8EEF-B0008F96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5005A-A362-4106-88FF-9CB1F773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93A96-FD9A-4841-A5F2-B60677B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E81-1D05-44AE-A155-E02916D4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99B7-C95B-4D3D-97AA-8E5A28A0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1D1700-B6A9-4870-AF23-A143A421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9ED708-9C13-45DC-9CAB-5BDF61C6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93C43-ADCF-4941-8B81-DDEE5CDA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DD40C-3704-4272-AC83-D6FB653A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53333-9BFA-4EB7-A9B4-51860061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52947-8AC2-405C-AAD4-5728FE36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41EB3-8ED3-4A87-821D-E499B365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BF09B1-DF53-43EC-8BFA-0E247FFB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33DD6-7047-47D9-8983-2807BEA8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623421-C989-4A6A-B7E6-5A043F93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5D88-A918-4A0B-8B2C-3B39241B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FDDDD-6A09-419E-88F6-D75B43D4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66DCB-8D68-488F-9338-EF0394E0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5E29B-D3BF-4E15-914C-6F152438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C8031-0417-45C4-9460-09322038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E6CF6F-5F9C-4EB5-869C-8FAF4159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F8631-D404-41AC-BEFE-5FC67CEF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68026-4101-444F-962F-287D1CF2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7A59E-7946-4C1B-BD1C-BC31DD84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D92C78-2A3B-40AD-9994-E60B0E6A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EFEFC5-BE74-41C1-A627-CF8C3482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EE0F-D006-4594-A2DD-E37D2DCE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A867BF-C235-4272-89E8-25F40579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504A1-B9A0-430E-B3A0-68E8DC2F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1B89FC-847E-458F-BC52-EE2701E3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013BC0-DEDC-4711-A3C5-B2155C6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33B690-F200-46EF-9617-E35FEC65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2440A9-45CC-438E-B7B5-2E2A44A2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B8F848-646E-40F0-BC56-CAD424B7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04F158-E522-4DA7-9572-C5133654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EAE69-641E-4857-B482-99713B9E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836B3B-D2D8-4318-ABB9-C93A44C5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1080-826B-4C17-8023-9F7E0BA2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8D0CB-5DAB-4B2F-82B1-0005EDAE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D429B0-9457-48E4-9945-E0D34407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B8152-4B3B-41C8-B92F-F0873040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AE2FBE-4D3A-4485-AB3B-70FC4918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A2964-3E78-4B22-8F0C-1039F1DD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59A93-8518-4A8C-98A9-8125B955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0B1CB-1D8C-4AC2-A070-8FE9D01C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1B99E-2CA2-4BAF-A4EF-B73CF69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6D668C-6E58-479E-851D-35554FBB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195F73-B1F8-426E-A08C-F00B284A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A255-5311-4D58-961D-3D21B326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9C7A9-64BA-4FC0-829F-D0F25059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7987B3-7308-4DF0-A403-BFD0DC30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3F3C11-8E62-4662-9230-CCDCF1D0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2773E3-084E-4BE3-9CC2-E01D3E87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468F6-344A-4D5B-951A-C04C7D7F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651BD-47F8-4FD9-9902-909222A5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CC0853-274C-436B-98F7-FC8EBB43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59721C-1722-4448-8666-86710A24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83D481-38DA-4039-9E71-66B6D19E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95DB88-4CC8-4A24-BB66-01C1F31A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5480-528F-4636-8C94-3F7A833D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B2B37A-205D-4A6D-A960-0BDFD70C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1A4B9-CF2F-4383-B61D-B02F1024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B25B74-B595-4C48-B56F-E678F914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E8F118-7395-4106-90DE-ECC3D980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19C619-49A1-4FE0-B840-A652AEBC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5340F-BF83-48AA-88F8-C26FAEC3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D0B0C6-4A2D-444B-999D-BAAFF8F6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334A32-A443-4E23-953B-CFFC646E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B1CCC2-F083-4F84-8B43-C736A452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CFED87-348D-4198-979E-06DABA99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C399-88F7-4022-852C-98A864EE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A99CB3-4151-47FB-8A72-0F57EA05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6ACBC1-7D48-47FD-BF9A-2F3BD185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26160C-FFEA-43CA-AE9A-37B11306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C99F82-8134-44B1-B9DC-15EAE095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BACF5F-D7F7-4530-98B9-31DCCBA3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F35A2F-30E4-4011-ACB7-76DC3BCD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F3EB06-D2E9-4192-B199-F52DDF2F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E74AC8-291D-45EC-BC4D-7CA52FED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C08F5D-9F1C-42E6-928D-8DD208DE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0F956C-E59F-4460-9ABB-CC5414F0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6A23-4BD9-4C15-9F75-7BD94075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F73D6D-F9A4-44C5-8904-35EF5DDB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11AE96-E7AA-4B61-8748-F340DD95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2B1A2F-668C-49E7-BEE0-992BF638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2ACFCC-4211-4057-93B6-CF53453F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22CBA3-6710-44FF-AC72-32745AE0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53DE1F-79D4-4F16-BBEB-6631D4F5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7585C6-AC2D-4F9D-BE9E-5D23F491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BE32-6E35-4A32-8911-E4BBFF01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1232-8735-4FAC-9C23-C96E0689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A0A-C109-42A6-A13C-38CF5D50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6F69-BB2A-4B2D-A095-651155ED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73A31-55F5-40AC-881A-2E60F682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0476-0937-4250-839E-21ED0CAF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67F0-340D-4DB3-B980-D69C5BC0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5FDC-E1C0-4D5F-98F6-6BE7D65D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3489-E667-46A8-B37E-59A39A27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E6DA-7027-4F2A-82CE-73EE386C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19497-1130-401C-964C-A5C281CA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DCC4-365D-47C6-9DE5-54E3DC93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F827C-1FAB-4BD2-BFDF-3B82273E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6B8-0ED3-4D95-AB88-CE05EDF4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F80FF-DBC7-435E-B839-30754D51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9325-63F5-47CB-8F75-3EB7EF1A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668E-01CA-4C83-978F-28391DBA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BAC22-0DE0-4CF3-9F51-480FCAD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4655-686A-4D6E-8BBC-D5417F83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86C22-9468-4F7E-96CF-E5A0FB04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5964-A26A-408F-9E59-17C282B3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2FD0C-53B4-4B0F-A6D3-8C9F7B73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CE0A-E12C-46E5-932E-D61AA352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C21E5-A645-4C95-A7DC-0EE6F0DE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E69-4A98-4A2E-A182-DF21CBAE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35648-1F77-4B0E-AD1D-31D47623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6EC2E-9DF7-4CC4-8AA2-4B0E8D9D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4A892-1D8D-4444-ACDB-F68B1949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7A2DB-61A2-4CBC-9FC7-4C996872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A44DB-6F2E-402C-9147-F1A310A5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7742-FE47-49D6-B0A8-A6455E3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1C5C8-372C-4E5C-8987-BA0B403B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0B038-C1BF-4A80-8E64-4513E755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C700F-2ABD-4C45-AC18-3478DFA4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2ED98-E37D-48C6-A9DB-7C817723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CF2-E355-4DF1-97D8-3523D188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6D1CC-F09E-4C6E-BF24-A3C6A56D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C2465-E95F-4A1B-AC0D-63743C5C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FC6FB-0FAF-49EA-95E2-CCA79CC6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E5965-F336-49B3-873B-94D91E02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CF824-CC6C-4621-9404-1783A93E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0B62F-82E7-412A-A292-DF786077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95904-FBF8-4890-9DE1-91778D5E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9C38F-92D5-430B-9AE4-4854AFBF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B533B-992A-46EB-BE25-F1D2DF0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33DE9-46D4-4E00-BB30-668C664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201-015F-483C-8A41-7E8E43A3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FB8EA-D008-442B-9274-3DE95CC7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0BCBE-63BD-48B7-BE9B-C320B388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B6ECC-E8EE-44C0-A01D-120966E1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BEF28-0792-4D03-BF9A-FC3B07C4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9867-BF47-46EA-A727-5A0E0B69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50E5B-32EF-40F6-B032-11AEAAB3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B5296-A6F6-48E9-9074-C8E9EAFC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B9EA4-31DC-4BC9-9382-2B671A74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D7939-401D-45DD-A9AE-D257F846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6867E-6A80-4CFE-9D15-18DEB0E7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372-2227-452F-99EF-B0C2CB2E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E2F05-4AF8-4571-83E9-417D59EC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C1DC8-50D7-41F6-9ED2-9F1E7020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122C5-C544-4262-B182-926A5A92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F051E-3371-4F62-B961-A5073A98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F2622-9C0A-48A0-AF66-93F8B61E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15E3E-ACAC-4B63-B70D-26F1351B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D6950-BDDE-4D3D-9324-1054599A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F20E0-64BF-431C-9CB9-6CD8C37D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BCE04-BD1E-43D9-A5A7-C85BE98A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CE3D8-1D50-4C18-B15D-9027CDC0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B11-FFCB-4A80-A12F-8625B4F7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20EA8-15D6-44B9-B002-AD44542A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15E35-B6F6-4853-8163-15524CA6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6ADDA-7C9E-455D-8F26-58421AF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8F077-B682-499E-9957-9F5120F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6CAC5-95A5-4569-BCC4-6295B7B7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95DA4-F933-4E5F-B41E-90CC4E8B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72FFA-F3A4-4E69-9D9C-0AFCB196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F188B-6215-4196-AC3F-3C159C19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531FB-E646-42F4-87C3-BD415D3B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5DF31-2582-4456-B391-0DCCD47B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B8D9-99E0-4BBE-9637-A2A8D4E14B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7BB6-382E-4225-B6F8-6C3FC5C4CC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7910-FA37-48B0-9584-7C08285DFA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05AE-2581-46D8-9B36-9064AFD74B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A060-7F97-4FE5-830C-BE9706A385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358A-3A38-41F1-A9F9-BAF48EC3E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5261-F345-4F3A-AF7F-46F563123A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09E7-6AD0-43ED-B1C3-94405CDC7C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56FC-A036-4A90-87B9-44BC794760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2F99-4BE8-4148-89E3-3BD2BF012F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A79B-9707-4A45-B787-1FA2CBE28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1C94-EDC8-4677-9393-0BF8463257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C848-BFFE-40A3-8857-AEDF854451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5C42-7536-4264-BFA4-F7C14D7BBE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690E-4DD8-4B22-9FF5-F91740A94A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5E17-3340-4693-A4B4-E58DFE6EFD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F610-7C1D-4257-B399-B748DC0059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AD9C-B560-4598-AD11-08CE77BCB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A779-426F-432E-845D-7B4C0743D3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B135-CC09-4D28-A69A-34397BE415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A99A-956E-4339-A980-A46A401696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CD58-827E-4140-80DF-91DF232472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BA0D-DB60-46E3-995D-DBC8940394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C1DC-197C-48AB-97F5-FBBF91E68A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1E2D-BDCA-4120-9261-05E2C9D2B2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0E89-5E8E-4D14-A44B-C52FB78C08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C128-3844-49AC-A51E-7A7F94B27C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0338-11AE-4EB9-BC55-0477BAED9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037B-75D8-4F36-9CF4-0BC12874DA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3DE4-0560-48AB-A5C6-E317114D3B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4033-1AFB-4982-94CF-A087068B26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806F-456C-405D-94C9-0973C88CA0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9413-541A-4467-AEEA-E2D23AF64F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C022-A179-4551-A861-6BEB2D9B1C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5D75-8ED8-42F8-83CB-8D43C118D9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C673-0025-4025-88F8-5D4ABBD453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604A-42D7-4AC7-B978-46497DBB4E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6BC1-3DD0-415F-87AC-D674B20177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382E-2AE4-4C18-895E-8939E14AFA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C12B-4482-42DB-AAFC-DD80E7DC73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FDD8-0842-4A24-B670-087989CCDB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8B38-38A5-430E-8EC9-47F487F8DA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19080" y="2962440"/>
            <a:ext cx="730584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71440" y="1219320"/>
            <a:ext cx="8599680" cy="44193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58560" cy="2998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539640" y="2492280"/>
            <a:ext cx="358920" cy="3002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539640" y="3141720"/>
            <a:ext cx="358920" cy="2998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539640" y="4076640"/>
            <a:ext cx="358920" cy="3002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539640" y="4724280"/>
            <a:ext cx="358920" cy="3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244440" y="779400"/>
            <a:ext cx="7999560" cy="379116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2" descr=""/>
          <p:cNvPicPr/>
          <p:nvPr/>
        </p:nvPicPr>
        <p:blipFill>
          <a:blip r:embed="rId2"/>
          <a:stretch/>
        </p:blipFill>
        <p:spPr>
          <a:xfrm>
            <a:off x="244440" y="4764240"/>
            <a:ext cx="6391440" cy="15620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2916360" y="1398600"/>
            <a:ext cx="2232000" cy="2998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1547640" y="1773360"/>
            <a:ext cx="1511640" cy="2458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1763640" y="2409840"/>
            <a:ext cx="2952720" cy="2458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6"/>
          <a:stretch/>
        </p:blipFill>
        <p:spPr>
          <a:xfrm>
            <a:off x="1547640" y="3025800"/>
            <a:ext cx="2953080" cy="2458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7"/>
          <a:stretch/>
        </p:blipFill>
        <p:spPr>
          <a:xfrm>
            <a:off x="5940360" y="3035160"/>
            <a:ext cx="863640" cy="2462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8"/>
          <a:stretch/>
        </p:blipFill>
        <p:spPr>
          <a:xfrm>
            <a:off x="2124000" y="3664080"/>
            <a:ext cx="1727280" cy="2458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9"/>
          <a:stretch/>
        </p:blipFill>
        <p:spPr>
          <a:xfrm>
            <a:off x="1763640" y="4292640"/>
            <a:ext cx="2160720" cy="2458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10"/>
          <a:stretch/>
        </p:blipFill>
        <p:spPr>
          <a:xfrm>
            <a:off x="5508720" y="5084640"/>
            <a:ext cx="863640" cy="2462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11"/>
          <a:stretch/>
        </p:blipFill>
        <p:spPr>
          <a:xfrm>
            <a:off x="2340000" y="5402160"/>
            <a:ext cx="863640" cy="246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2"/>
          <a:stretch/>
        </p:blipFill>
        <p:spPr>
          <a:xfrm>
            <a:off x="1403280" y="5724360"/>
            <a:ext cx="863640" cy="2462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3"/>
          <a:stretch/>
        </p:blipFill>
        <p:spPr>
          <a:xfrm>
            <a:off x="1619280" y="6040440"/>
            <a:ext cx="863640" cy="2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428760" y="736560"/>
            <a:ext cx="7372080" cy="3618000"/>
          </a:xfrm>
          <a:prstGeom prst="rect">
            <a:avLst/>
          </a:prstGeom>
          <a:ln w="0">
            <a:noFill/>
          </a:ln>
        </p:spPr>
      </p:pic>
      <p:pic>
        <p:nvPicPr>
          <p:cNvPr id="1127" name="图片 2" descr=""/>
          <p:cNvPicPr/>
          <p:nvPr/>
        </p:nvPicPr>
        <p:blipFill>
          <a:blip r:embed="rId2"/>
          <a:stretch/>
        </p:blipFill>
        <p:spPr>
          <a:xfrm>
            <a:off x="428760" y="4417920"/>
            <a:ext cx="4647960" cy="185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1187280" y="4446720"/>
            <a:ext cx="576360" cy="2458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1187280" y="5075280"/>
            <a:ext cx="576360" cy="2458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1187280" y="5715000"/>
            <a:ext cx="576360" cy="2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181160" y="2610000"/>
            <a:ext cx="6781680" cy="16380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6877080" y="2924280"/>
            <a:ext cx="719280" cy="245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1763640" y="3564000"/>
            <a:ext cx="71928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4:3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